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460-EEC5-45D4-B183-0DEB26B0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C52-FD47-483E-861E-7D8B3767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0FB-94E9-43C6-AD54-AC545E2F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0C0-89E0-4E80-A5AD-6056F092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F6C-F6C8-446E-927D-1B7E081E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38D-6D4A-40E4-B5F7-8DD24F05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EDA-2D14-451A-8C9E-EBE79BBF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B6A-2337-400B-A9A4-7ED6D397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F2C-C7EB-4781-9B73-B84E3D0D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E0E-1542-4CD5-AE61-CD40B52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9E4-0E9B-4316-B11C-4D0A002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345-A8FF-49CD-BB5F-7E765EB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7C4AFD-3057-40FF-AEBC-CED92B35F813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3640" y="1413000"/>
            <a:ext cx="38880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244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3960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tural selection caused many marsupials to evo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cross the rest of the world competition resulted in other mammals evolving with more efficient reproductiv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rsupials remain dominant in Austr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885680" cy="20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50012" t="0" r="0" b="0"/>
          <a:stretch/>
        </p:blipFill>
        <p:spPr>
          <a:xfrm>
            <a:off x="5219640" y="189000"/>
            <a:ext cx="3510000" cy="648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20955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4508280"/>
            <a:ext cx="87138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When species evolve in isolation and found in only one place in the world, it is said to be </a:t>
            </a:r>
            <a:r>
              <a:rPr b="1" lang="es-ES" sz="2800" spc="-1" strike="noStrike">
                <a:solidFill>
                  <a:srgbClr val="0000ff"/>
                </a:solidFill>
                <a:latin typeface="Comic Sans MS"/>
              </a:rPr>
              <a:t>ende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laces like Borneo have many endemic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384360" cy="313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00032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77760"/>
            <a:ext cx="417492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8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unt Bosavi is a crater of an extinct volcano in Papua New Guin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nimals and plants that live inside it have evolved differently to those outside the cr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2000" y="115920"/>
            <a:ext cx="2879640" cy="21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64000" y="4508640"/>
            <a:ext cx="3589560" cy="215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310356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610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peciation when original species can no longer interbreed with the new spe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76884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7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Ways for speciation to happen - Higher ti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New species can also arise as a result of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Genetic variation - where each population has a wide range of alleles that control their characteristics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Natural selection - where the alleles which help an organism to survive are selected in each population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Speciation - where the populations become so different that successful interbreeding cannot happen anymor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28616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Comic Sans MS"/>
              </a:rPr>
              <a:t>To know how new species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To understand how a population becomes iso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To know whether new species form at the same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Comic Sans MS"/>
              </a:rPr>
              <a:t>To know how speciation takes place in an isolated population. (Hig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37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ow have these fossils 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4149720"/>
            <a:ext cx="4537080" cy="2552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916360" y="4869000"/>
            <a:ext cx="14284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76720" y="981000"/>
            <a:ext cx="382104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1125360"/>
            <a:ext cx="3384720" cy="25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492360" y="1989000"/>
            <a:ext cx="1428840" cy="11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8000" y="3068640"/>
            <a:ext cx="360972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fter a mass extinction, a huge number of new species appear in the fossi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his is evolution in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3789360"/>
            <a:ext cx="3822840" cy="28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1125360"/>
            <a:ext cx="2808000" cy="18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981000"/>
            <a:ext cx="40003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142920"/>
            <a:ext cx="871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atural selection takes place and new organisms adapted to different conditions evolv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127640" cy="45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3210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ny population of living organisms contain genetic var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If one population becomes isolated they will probably be living in different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16829"/>
          <a:stretch/>
        </p:blipFill>
        <p:spPr>
          <a:xfrm>
            <a:off x="4211640" y="1125360"/>
            <a:ext cx="458136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914400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wo populations might change so much over time that they can not interb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This is a new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245" t="18419" r="2822" b="17000"/>
          <a:stretch/>
        </p:blipFill>
        <p:spPr>
          <a:xfrm>
            <a:off x="755640" y="981000"/>
            <a:ext cx="727236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3097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common way species become isolated is by geographical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when two populations become physically isolated ie, a new river or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5257800" cy="51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solation and the Evolution of New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88000" y="126792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n examp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ustralia became separated from other continents over 5 million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Marsupial mammals (carry babies in pouches) became iso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607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5:31:32Z</dcterms:created>
  <dc:creator>sonia.bhatti</dc:creator>
  <dc:description/>
  <dc:language>en-US</dc:language>
  <cp:lastModifiedBy>sonia.bhatti</cp:lastModifiedBy>
  <dcterms:modified xsi:type="dcterms:W3CDTF">2012-12-06T15:12:06Z</dcterms:modified>
  <cp:revision>17</cp:revision>
  <dc:subject/>
  <dc:title>Isolation and the Evolution of New Species</dc:title>
</cp:coreProperties>
</file>